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6800" y="104760"/>
            <a:ext cx="7020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77160" y="658656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ge </a:t>
            </a:r>
            <a:fld id="{4D93598B-4810-49E2-8D9C-7671A12083DD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46440" indent="-204840">
              <a:spcBef>
                <a:spcPts val="451"/>
              </a:spcBef>
              <a:buClr>
                <a:srgbClr val="009999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58840" y="162000"/>
          <a:ext cx="113328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840" y="162000"/>
                    <a:ext cx="1133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258840" y="790560"/>
            <a:ext cx="8682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3200" y="6594480"/>
            <a:ext cx="324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5360" y="1038240"/>
            <a:ext cx="4191120" cy="259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y Acceptance Testing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0920" y="1017720"/>
            <a:ext cx="4343400" cy="148752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TION TO PLANNING WITH NO CAPITAL BUD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YET APPR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3200" y="789120"/>
            <a:ext cx="24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Scope/Delive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8640" y="37274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5080" y="258300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s / 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09080" y="4500720"/>
            <a:ext cx="313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Milestones as of 11/30/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75320" y="812880"/>
            <a:ext cx="3427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ive Summary of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60496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54032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914400"/>
            <a:ext cx="0" cy="565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9600" y="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183 EMMS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88960" y="338040"/>
            <a:ext cx="19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:  Jeffrey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Mgr: Oba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8680" y="4046400"/>
          <a:ext cx="3922560" cy="2395800"/>
        </p:xfrm>
        <a:graphic>
          <a:graphicData uri="http://schemas.openxmlformats.org/drawingml/2006/table">
            <a:tbl>
              <a:tblPr/>
              <a:tblGrid>
                <a:gridCol w="1566720"/>
                <a:gridCol w="752400"/>
                <a:gridCol w="790560"/>
                <a:gridCol w="812880"/>
              </a:tblGrid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cstd. Comple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 Loc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 Desig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9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 and Unit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F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4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y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3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9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6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Participant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7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Mig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7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287880" y="33804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Lead: Pat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027760" y="71280"/>
            <a:ext cx="3857400" cy="638280"/>
            <a:chOff x="5027760" y="71280"/>
            <a:chExt cx="3857400" cy="638280"/>
          </a:xfrm>
        </p:grpSpPr>
        <p:sp>
          <p:nvSpPr>
            <p:cNvPr id="59" name=""/>
            <p:cNvSpPr/>
            <p:nvPr/>
          </p:nvSpPr>
          <p:spPr>
            <a:xfrm>
              <a:off x="833508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78356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384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78720" y="49680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2900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7748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2776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st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3508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8356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384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78720" y="28404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2900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7748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776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is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3508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s Align/ Scop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8356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chnical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3384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chedul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78720" y="7128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ffing 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2900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nancial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7748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77480" y="71280"/>
              <a:ext cx="3307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27760" y="28404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27760" y="49680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7760" y="709560"/>
              <a:ext cx="38574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7760" y="284040"/>
              <a:ext cx="0" cy="4255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774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2900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7872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3384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8356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350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85160" y="71280"/>
              <a:ext cx="0" cy="638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570560" y="71280"/>
            <a:ext cx="18720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75400" y="309600"/>
            <a:ext cx="18288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8016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1344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13440" y="509760"/>
            <a:ext cx="182520" cy="172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75440" y="71280"/>
            <a:ext cx="18252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1864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18640" y="509760"/>
            <a:ext cx="182520" cy="172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56152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561520" y="50004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2600" y="3719520"/>
            <a:ext cx="429588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4746600"/>
          <a:ext cx="4419360" cy="1854360"/>
        </p:xfrm>
        <a:graphic>
          <a:graphicData uri="http://schemas.openxmlformats.org/drawingml/2006/table">
            <a:tbl>
              <a:tblPr/>
              <a:tblGrid>
                <a:gridCol w="504720"/>
                <a:gridCol w="638280"/>
                <a:gridCol w="628560"/>
                <a:gridCol w="638280"/>
                <a:gridCol w="657000"/>
                <a:gridCol w="704880"/>
                <a:gridCol w="64764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Budg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/ Actu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n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oreca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d to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to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4572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57,6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443400" y="838080"/>
            <a:ext cx="231840" cy="17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61200" y="7920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80160" y="299880"/>
            <a:ext cx="18720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652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044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60920" y="1038240"/>
            <a:ext cx="4343400" cy="148752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0 major deliverables from AREVA (MOS–5, POS-4, PUCT-1) + 7 internal sub projects (4 Billing &amp; Settlements, 3 DA/D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illing &amp; Settlements development underway.  OOM Tool Enhancements planning near comple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/EDW planning comple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XML Specifications released 2/2/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835360"/>
            <a:ext cx="4343400" cy="165420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y acceptance testing progressing slower than expected.  This may require additional testing tim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71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51480" y="299880"/>
            <a:ext cx="18756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1440" y="71280"/>
            <a:ext cx="18252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livera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901800"/>
          <a:ext cx="7772400" cy="5851440"/>
        </p:xfrm>
        <a:graphic>
          <a:graphicData uri="http://schemas.openxmlformats.org/drawingml/2006/table">
            <a:tbl>
              <a:tblPr/>
              <a:tblGrid>
                <a:gridCol w="1046160"/>
                <a:gridCol w="1025640"/>
                <a:gridCol w="5700600"/>
              </a:tblGrid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 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P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20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P137/PRR211 Association of BE Bids with R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3 - Optimization for the Whole Operating Day in RPRS Procurement 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al Protection Sche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359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ource Plan Improvement (Phase I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Simultaneous Sele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2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3 - Dispatch of Generation Resources Below Minimum Operating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2 - OOM Zonal Dispatch Instru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49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Data Elements for Local Constraints &amp; O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ment to OOM tools for congestion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MS Parameters Capture for MMS Reclear Fide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 Specific Bid Limits based on Generic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 Participation in Providing Ancillary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CT Upgrade S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CT Add Corrected MCPEs to the MOS dbase and pass to M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Power System Model Maintenance via Database Archive Compari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ments to VSA/D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 A Business Process will be put in place to address standardization of Constraint Nam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28:49Z</dcterms:created>
  <dc:creator>Mitch Seagraves</dc:creator>
  <dc:description/>
  <dc:language>en-US</dc:language>
  <cp:lastModifiedBy>Jeffrey Robinson</cp:lastModifiedBy>
  <cp:lastPrinted>1999-12-01T22:56:09Z</cp:lastPrinted>
  <dcterms:modified xsi:type="dcterms:W3CDTF">2005-02-14T11:27:34Z</dcterms:modified>
  <cp:revision>692</cp:revision>
  <dc:subject/>
  <dc:title>No Slide Title</dc:title>
</cp:coreProperties>
</file>